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1523663" cy="6480175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AC41-A341-4185-A63F-42C2E1BC6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6360" y="258480"/>
            <a:ext cx="10369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6360" y="1511280"/>
            <a:ext cx="103694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360" y="3745080"/>
            <a:ext cx="103694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40B9-D6B1-4828-AA8A-BBA2EED6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6360" y="258480"/>
            <a:ext cx="10369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6360" y="1511280"/>
            <a:ext cx="5060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89960" y="1511280"/>
            <a:ext cx="5060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6360" y="3745080"/>
            <a:ext cx="5060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889960" y="3745080"/>
            <a:ext cx="5060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1A7E-8C6C-4871-B54E-DCDE2D5D3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6360" y="258480"/>
            <a:ext cx="10369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6360" y="1511280"/>
            <a:ext cx="33386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82400" y="1511280"/>
            <a:ext cx="33386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588440" y="1511280"/>
            <a:ext cx="33386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6360" y="3745080"/>
            <a:ext cx="33386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82400" y="3745080"/>
            <a:ext cx="33386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588440" y="3745080"/>
            <a:ext cx="33386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541C-50D2-411F-A98D-648A03538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6360" y="258480"/>
            <a:ext cx="10369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6360" y="1511280"/>
            <a:ext cx="103694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BAC5-12F2-4DB1-9236-C23A2396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6360" y="258480"/>
            <a:ext cx="10369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6360" y="1511280"/>
            <a:ext cx="1036944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22FC-AF9F-413C-A9B9-F452E2C4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6360" y="258480"/>
            <a:ext cx="10369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6360" y="1511280"/>
            <a:ext cx="5060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889960" y="1511280"/>
            <a:ext cx="5060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71EF-0C78-46DD-AA50-1F8E03F4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6360" y="258480"/>
            <a:ext cx="10369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E747-8981-4932-924D-DB6E4DE1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6360" y="258480"/>
            <a:ext cx="10369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D3B0-9510-4B5F-AF83-D935AAE2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6360" y="258480"/>
            <a:ext cx="10369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6360" y="1511280"/>
            <a:ext cx="5060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89960" y="1511280"/>
            <a:ext cx="5060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6360" y="3745080"/>
            <a:ext cx="5060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50DC-44CB-4649-8557-816C8663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6360" y="258480"/>
            <a:ext cx="10369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6360" y="1511280"/>
            <a:ext cx="5060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89960" y="1511280"/>
            <a:ext cx="5060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889960" y="3745080"/>
            <a:ext cx="5060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880D-26A0-497E-B1A8-F8970D4E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6360" y="258480"/>
            <a:ext cx="10369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6360" y="1511280"/>
            <a:ext cx="5060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89960" y="1511280"/>
            <a:ext cx="5060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6360" y="3745080"/>
            <a:ext cx="103694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4B55-CC6A-4806-9819-6CEA78F6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6360" y="258480"/>
            <a:ext cx="10369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6360" y="1511280"/>
            <a:ext cx="1036944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6000" y="5900760"/>
            <a:ext cx="26874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36960" y="5900760"/>
            <a:ext cx="3648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8040" y="5900760"/>
            <a:ext cx="26877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9639-AC7C-414C-AC2F-CE907459D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s://lh5.googleusercontent.com/-qSsgaJVWLwg/TO8ru7sKtPI/AAAAAAAAACk/ZO7OfOGsRP0/s1600/jesus21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91840" y="144360"/>
            <a:ext cx="8625240" cy="1191240"/>
          </a:xfrm>
          <a:prstGeom prst="rect">
            <a:avLst/>
          </a:prstGeom>
          <a:noFill/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DOMINGO 5º DEL TIEMPO ORDI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9 DE FEBR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080" y="2859120"/>
            <a:ext cx="2514600" cy="520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¿Qué hac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41360" y="1563840"/>
            <a:ext cx="8839440" cy="6426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DOMINGO DE LA BONDAD Y EL AM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2560680" y="2706480"/>
            <a:ext cx="914400" cy="15228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60680" y="3392640"/>
            <a:ext cx="914400" cy="2286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60680" y="3164040"/>
            <a:ext cx="914400" cy="0"/>
          </a:xfrm>
          <a:prstGeom prst="line">
            <a:avLst/>
          </a:prstGeom>
          <a:ln w="572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01640" y="2401920"/>
            <a:ext cx="23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Parte tu p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03800" y="2873520"/>
            <a:ext cx="39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Hospeda a los pob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01640" y="3392640"/>
            <a:ext cx="43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No te cierres a los tuy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2400" y="4230720"/>
            <a:ext cx="2514600" cy="520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Jesús te d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75080" y="480852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Vosotros sois SAL”: Dad sabor cristiano a la v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02000" y="3940200"/>
            <a:ext cx="407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Vosotros sois LUZ”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Iluminad a los veci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637000" y="4230360"/>
            <a:ext cx="914400" cy="15228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37000" y="4687920"/>
            <a:ext cx="990360" cy="30492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5845320"/>
            <a:ext cx="1010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SI NO PODEMOS SER BUENOS, SEAMOS BONDADO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5602320"/>
            <a:ext cx="1112760" cy="838080"/>
          </a:xfrm>
          <a:prstGeom prst="wedgeRoundRectCallout">
            <a:avLst>
              <a:gd name="adj1" fmla="val 84666"/>
              <a:gd name="adj2" fmla="val 10796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ú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275680" y="2401920"/>
            <a:ext cx="32004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79880" y="71280"/>
            <a:ext cx="58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ANCIÓN DE DESPED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03680" y="2897280"/>
            <a:ext cx="7391520" cy="10688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VEN CON NOSOTROS AL CAMINAR, SANTA MARÍA, VEN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(b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21053" t="9722" r="19298" b="6944"/>
          <a:stretch/>
        </p:blipFill>
        <p:spPr>
          <a:xfrm>
            <a:off x="46080" y="833400"/>
            <a:ext cx="3265560" cy="5378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322800" y="5678640"/>
            <a:ext cx="8123040" cy="581400"/>
          </a:xfrm>
          <a:prstGeom prst="rect">
            <a:avLst/>
          </a:prstGeom>
          <a:solidFill>
            <a:srgbClr val="ccff66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SANTA CASILDA: VEN CON NOSO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78120" y="1104840"/>
            <a:ext cx="528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1º.- Mientras recorres la vid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tú nunca solo estás, contig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por el camino, Santa María 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65600" y="4229280"/>
            <a:ext cx="672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2º.- Aunque te digan algunos que 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puede cambiar, lucha por un mun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nuevo, lucha por la ver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imagen"/>
          <p:cNvPicPr/>
          <p:nvPr/>
        </p:nvPicPr>
        <p:blipFill>
          <a:blip r:embed="rId2"/>
          <a:stretch/>
        </p:blipFill>
        <p:spPr>
          <a:xfrm>
            <a:off x="9190080" y="115920"/>
            <a:ext cx="2209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74920" y="-36360"/>
            <a:ext cx="44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ANTO DE ENT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11600" y="496800"/>
            <a:ext cx="9600480" cy="13737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DIOS NOS CONVOCA, VENID Y ESCUCHEMOS SU VOZ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LA MESA HA PREPARADO, SU PAN ES SALVACIÓ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GRACIAS, SEÑOR POR SER TUS INVI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1000" y="1943280"/>
            <a:ext cx="6400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- Venid, celebrad la Palabr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venid y acogen la verdad y 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ermandad cantad la nueva Al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980400" y="2249640"/>
            <a:ext cx="4419360" cy="4190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51000" y="3238560"/>
            <a:ext cx="647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2.- Venid, celebrad la Esperanz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venid a la cena Pascual y en hermandad cantad la nueva Al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21493" r="0" b="0"/>
          <a:stretch/>
        </p:blipFill>
        <p:spPr>
          <a:xfrm>
            <a:off x="693720" y="4535640"/>
            <a:ext cx="53722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29120" y="115920"/>
            <a:ext cx="797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Arial"/>
              </a:rPr>
              <a:t>RITO DE LA BENDICIÓN DEL AGU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24960" y="1030320"/>
            <a:ext cx="8472960" cy="1556280"/>
          </a:xfrm>
          <a:prstGeom prst="rect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UNA NUEVA VIDA. TU MISMA V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UNA NUEVA FAMILIA. TU MISMA FAMIL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HIJOS TUYOS PARA SIEMP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Una Cascada de Agua"/>
          <p:cNvPicPr/>
          <p:nvPr/>
        </p:nvPicPr>
        <p:blipFill>
          <a:blip r:embed="rId1"/>
          <a:srcRect l="23438" t="0" r="25000" b="0"/>
          <a:stretch/>
        </p:blipFill>
        <p:spPr>
          <a:xfrm>
            <a:off x="9342360" y="268200"/>
            <a:ext cx="2057400" cy="2362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bautismo%20a%20bebes.jpg"/>
          <p:cNvPicPr/>
          <p:nvPr/>
        </p:nvPicPr>
        <p:blipFill>
          <a:blip r:embed="rId2"/>
          <a:stretch/>
        </p:blipFill>
        <p:spPr>
          <a:xfrm>
            <a:off x="122400" y="2782800"/>
            <a:ext cx="4343400" cy="3621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96480" y="2735280"/>
            <a:ext cx="6797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1.- Por medio del bautismo renacem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en agua que nos salva nos bañam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pasamos de la carne y de lo human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al mundo de la gracia y de lo eter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480" y="4640400"/>
            <a:ext cx="652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.- Surgimos del sepulcro que es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gua, teñidos en tu sangre redent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ontigo incorporados a la Pascu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vivimos en cristiano hora a h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0440" y="-36360"/>
            <a:ext cx="70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RIMERA LECTURA: Isaías 58, 7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4680" y="496800"/>
            <a:ext cx="1104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Parte tu pan con el hambriento, hospeda a los pobres sin techo, viste al que va desnudo y no te cierres a tu propia car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4680" y="1411200"/>
            <a:ext cx="960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  <a:ea typeface="Arial"/>
              </a:rPr>
              <a:t>Entonces romperá tu luz como aurora. Clamarás al Señor y te responderá; gritarás y te dirá: “Aquí estoy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7320" y="2401920"/>
            <a:ext cx="490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RESPUESTA AL SAL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8360" y="3079800"/>
            <a:ext cx="11125440" cy="5814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EL JUSTO BRILLA EN LAS TINIEBLAS COMO UNA LU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6480" y="3849840"/>
            <a:ext cx="794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EGUNDA LECTURA: 1ª Corintios 2, 1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080" y="442764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Nunca me precié de saber cosa algun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ino a Jesucristo, y este crucifi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840" y="5450040"/>
            <a:ext cx="73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Que vuestra fe no se apoye en la sabidu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e los hombres, sino en el poder de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047080" y="4346640"/>
            <a:ext cx="3429000" cy="2133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rcRect l="8570" t="8627" r="5713" b="20216"/>
          <a:stretch/>
        </p:blipFill>
        <p:spPr>
          <a:xfrm>
            <a:off x="9647280" y="1411200"/>
            <a:ext cx="1752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1240" y="28440"/>
            <a:ext cx="61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CLAMACIÓN AL EVANGE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41560" y="588960"/>
            <a:ext cx="5596920" cy="5205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ALELUYA, ALELUYA, ALELU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8760" y="2097000"/>
            <a:ext cx="741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VANGELIO DE SAN MATEO 5, 13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03880" y="263052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Vosotros sois la sal de la tierra. Pero si la sal se vuelve sosa 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27560" y="4611600"/>
            <a:ext cx="6294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Alumbre así vuestra luz a l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hombres para que vean vuestr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buenas obras y den gloria a vuestro Padre que está en el ciel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14560" y="1173240"/>
            <a:ext cx="552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Vosotros sois la sal de la tier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Vosotros sois la luz del mu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03880" y="3621240"/>
            <a:ext cx="62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Vosotros sois la luz del mun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No se puede ocultar una ciudad …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080" y="2782800"/>
            <a:ext cx="4313160" cy="3581640"/>
          </a:xfrm>
          <a:prstGeom prst="rect">
            <a:avLst/>
          </a:prstGeom>
          <a:ln w="0">
            <a:noFill/>
          </a:ln>
        </p:spPr>
      </p:pic>
      <p:cxnSp>
        <p:nvCxnSpPr>
          <p:cNvPr id="88" name=""/>
          <p:cNvCxnSpPr>
            <a:stCxn id="87" idx="3"/>
            <a:endCxn id="83" idx="1"/>
          </p:cNvCxnSpPr>
          <p:nvPr/>
        </p:nvCxnSpPr>
        <p:spPr>
          <a:xfrm flipV="1">
            <a:off x="4359240" y="3103200"/>
            <a:ext cx="945360" cy="1470240"/>
          </a:xfrm>
          <a:prstGeom prst="bentConnector3">
            <a:avLst>
              <a:gd name="adj1" fmla="val 49904"/>
            </a:avLst>
          </a:prstGeom>
          <a:ln w="57240">
            <a:solidFill>
              <a:srgbClr val="3333ff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87" idx="3"/>
            <a:endCxn id="84" idx="1"/>
          </p:cNvCxnSpPr>
          <p:nvPr/>
        </p:nvCxnSpPr>
        <p:spPr>
          <a:xfrm>
            <a:off x="4359240" y="4573080"/>
            <a:ext cx="869040" cy="939240"/>
          </a:xfrm>
          <a:prstGeom prst="bentConnector3">
            <a:avLst>
              <a:gd name="adj1" fmla="val 49896"/>
            </a:avLst>
          </a:prstGeom>
          <a:ln w="5724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7" idx="3"/>
            <a:endCxn id="86" idx="1"/>
          </p:cNvCxnSpPr>
          <p:nvPr/>
        </p:nvCxnSpPr>
        <p:spPr>
          <a:xfrm flipV="1">
            <a:off x="4359240" y="4093560"/>
            <a:ext cx="945360" cy="479880"/>
          </a:xfrm>
          <a:prstGeom prst="bentConnector3">
            <a:avLst>
              <a:gd name="adj1" fmla="val 49904"/>
            </a:avLst>
          </a:prstGeom>
          <a:ln w="57240">
            <a:solidFill>
              <a:srgbClr val="ff5050"/>
            </a:solidFill>
            <a:miter/>
            <a:tailEnd len="med" type="triangle" w="med"/>
          </a:ln>
        </p:spPr>
      </p:cxn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589880" y="344520"/>
            <a:ext cx="35622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77920" y="-36360"/>
            <a:ext cx="101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LA PALABRA DE DIOS TE DICE …    (Homilí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1411200"/>
            <a:ext cx="1798920" cy="3018600"/>
          </a:xfrm>
          <a:prstGeom prst="rect">
            <a:avLst/>
          </a:prstGeom>
          <a:solidFill>
            <a:srgbClr val="ffff00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U 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IOS SERÁ TU LU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58960" y="617400"/>
            <a:ext cx="2879640" cy="52056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1º.- Parte tu 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37000" y="1341360"/>
            <a:ext cx="4724280" cy="94716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2º.- Jesucristo es la raz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de nuestro modo de 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59680" y="2478240"/>
            <a:ext cx="4240800" cy="94716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3º.- Ser LUZ y SAL pa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odo el que nos v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3" idx="3"/>
            <a:endCxn id="95" idx="1"/>
          </p:cNvCxnSpPr>
          <p:nvPr/>
        </p:nvCxnSpPr>
        <p:spPr>
          <a:xfrm flipV="1">
            <a:off x="1979280" y="1833120"/>
            <a:ext cx="639000" cy="1115280"/>
          </a:xfrm>
          <a:prstGeom prst="bentConnector3">
            <a:avLst>
              <a:gd name="adj1" fmla="val 48985"/>
            </a:avLst>
          </a:prstGeom>
          <a:ln w="381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2637000" y="3581280"/>
            <a:ext cx="4876560" cy="1373760"/>
          </a:xfrm>
          <a:prstGeom prst="rect">
            <a:avLst/>
          </a:pr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4º.- Jesucristo, en la Mis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nos da la luz de su pala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y el pan que da la v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3" idx="3"/>
            <a:endCxn id="94" idx="1"/>
          </p:cNvCxnSpPr>
          <p:nvPr/>
        </p:nvCxnSpPr>
        <p:spPr>
          <a:xfrm flipV="1">
            <a:off x="1979280" y="896400"/>
            <a:ext cx="639000" cy="2052000"/>
          </a:xfrm>
          <a:prstGeom prst="bentConnector3">
            <a:avLst>
              <a:gd name="adj1" fmla="val 48985"/>
            </a:avLst>
          </a:prstGeom>
          <a:ln w="381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3"/>
            <a:endCxn id="96" idx="1"/>
          </p:cNvCxnSpPr>
          <p:nvPr/>
        </p:nvCxnSpPr>
        <p:spPr>
          <a:xfrm>
            <a:off x="1979280" y="2948040"/>
            <a:ext cx="639000" cy="23040"/>
          </a:xfrm>
          <a:prstGeom prst="bentConnector3">
            <a:avLst>
              <a:gd name="adj1" fmla="val 48985"/>
            </a:avLst>
          </a:prstGeom>
          <a:ln w="381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3"/>
            <a:endCxn id="98" idx="1"/>
          </p:cNvCxnSpPr>
          <p:nvPr/>
        </p:nvCxnSpPr>
        <p:spPr>
          <a:xfrm>
            <a:off x="1979280" y="2948040"/>
            <a:ext cx="639000" cy="1340640"/>
          </a:xfrm>
          <a:prstGeom prst="bentConnector3">
            <a:avLst>
              <a:gd name="adj1" fmla="val 48985"/>
            </a:avLst>
          </a:prstGeom>
          <a:ln w="38160">
            <a:solidFill>
              <a:srgbClr val="ff00ff"/>
            </a:solidFill>
            <a:miter/>
            <a:tailEnd len="med" type="triangle" w="med"/>
          </a:ln>
        </p:spPr>
      </p:cxn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322800" y="5068800"/>
            <a:ext cx="4248000" cy="1411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89880" y="1182600"/>
            <a:ext cx="3962520" cy="5029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rcRect l="0" t="21321" r="61114" b="24506"/>
          <a:stretch/>
        </p:blipFill>
        <p:spPr>
          <a:xfrm>
            <a:off x="46080" y="5068800"/>
            <a:ext cx="30481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47440" y="109440"/>
            <a:ext cx="538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ANTO AL OFERTO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98000" y="3849840"/>
            <a:ext cx="9294120" cy="10688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SABER QUE VENDRÁS SABER QUE ESTAR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ARTIENDO A LOS POBRES EL PAN. (b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94400" y="725400"/>
            <a:ext cx="6781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1.- En este mundo que Cristo nos d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hacemos la ofrenda del pa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el pan de nuestro trabajo sin f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y el vino de nuestro cant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Traigo ante ti nuestra justa inquietu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amar la justicia y la pa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1000" y="5067360"/>
            <a:ext cx="11171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2.- La sed de todos los hombres sin luz, la pena y el triste llorar, el odio de los que mueren sin fe, cansados de tanto luch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En la patena de nuestra oblación acepta la vida, Señ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080" y="801720"/>
            <a:ext cx="4572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961480" y="39600"/>
            <a:ext cx="2484360" cy="64321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VE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EÑ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JESÚ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Arial"/>
              </a:rPr>
              <a:t>YO 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Arial"/>
              </a:rPr>
              <a:t>AMO 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Arial"/>
              </a:rPr>
              <a:t>CR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Arial"/>
              </a:rPr>
              <a:t>EN T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D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TU PAN SEÑ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30240" y="0"/>
            <a:ext cx="88851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72840" y="-36360"/>
            <a:ext cx="523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ANTO DE COMUN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8360" y="649440"/>
            <a:ext cx="11049120" cy="10688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CON VOSOTROS ESTÁ Y NO LE CONOCÉIS, CON VOSOTROS ESTÁ, SU NOMBRE ES EL SEÑOR, </a:t>
            </a: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(B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08400" y="1944720"/>
            <a:ext cx="906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Su nombre es el Señor y pasa hambre, y cla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por la boca del hambriento, y muchos que lo v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pasan de largo acaso por llegar temprano al temp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84360" y="3467160"/>
            <a:ext cx="89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Su nombre es el Señor y está desnudo, la ausencia del amor hiela sus huesos, y muchos que lo ven pasan de largo, seguros al calor de su diner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106960"/>
            <a:ext cx="911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u nombre es el Señor y enfermo vive, y su agoní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s la del enfermo, y muchos que lo saben no hacen caso: "tal vez no frecuentaba mucho el templo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17390" t="0" r="32192" b="0"/>
          <a:stretch/>
        </p:blipFill>
        <p:spPr>
          <a:xfrm>
            <a:off x="122400" y="1982880"/>
            <a:ext cx="220968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7:33:28Z</dcterms:created>
  <dc:creator>USUARIO</dc:creator>
  <dc:description/>
  <dc:language>en-US</dc:language>
  <cp:lastModifiedBy>USUARIO</cp:lastModifiedBy>
  <dcterms:modified xsi:type="dcterms:W3CDTF">2014-02-08T08:07:35Z</dcterms:modified>
  <cp:revision>52</cp:revision>
  <dc:subject/>
  <dc:title>Diapositiva 1</dc:title>
</cp:coreProperties>
</file>