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15236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4DF-F5E1-4732-A384-6657A1BD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ADA-FA17-4FF3-A968-BDD5278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92B-013C-4E3A-9CD4-D567B31A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5112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745080"/>
            <a:ext cx="33386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0E2-34E3-4C65-A3FD-5C9EB51A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9B7-7BD0-4A96-823D-63589ED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403-68D9-4C70-8428-B5A8DB9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55D-6A94-4D51-8678-958CBB5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143-619E-41AB-8AB6-D86D42E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58480"/>
            <a:ext cx="10369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9CB-1BB9-43D6-B2F2-7152BDF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09CC-9092-4F42-BDCD-421D60C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7450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51F-DAA4-4243-A2F4-962CC98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511280"/>
            <a:ext cx="50601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745080"/>
            <a:ext cx="10369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804-33B3-4690-9B85-F9469D7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58480"/>
            <a:ext cx="10369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511280"/>
            <a:ext cx="10369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5900760"/>
            <a:ext cx="26874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5900760"/>
            <a:ext cx="3648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5900760"/>
            <a:ext cx="26877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6D2F-F445-479C-BB99-45B4B8544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8280" y="144360"/>
            <a:ext cx="8710560" cy="11912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EXTO DOMINGO TIEMPO ORDI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6 DE FEBR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4880" y="1487520"/>
            <a:ext cx="8003520" cy="5814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OMINGO DE LA SABIDURÍA Y LA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199360" y="2465280"/>
            <a:ext cx="289584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LA SABIDURÍA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I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2478240"/>
            <a:ext cx="3124080" cy="100800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LA SABIDURÍA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80" y="4282920"/>
            <a:ext cx="175248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145000" y="4168800"/>
            <a:ext cx="102816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2120" y="4307040"/>
            <a:ext cx="94896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59200" y="4154400"/>
            <a:ext cx="102816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0160" y="5145120"/>
            <a:ext cx="187524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EGOÍ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36440" y="5045040"/>
            <a:ext cx="126432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4" idx="0"/>
          </p:cNvCxnSpPr>
          <p:nvPr/>
        </p:nvCxnSpPr>
        <p:spPr>
          <a:xfrm flipH="1" flipV="1" rot="10800000">
            <a:off x="1694880" y="1777680"/>
            <a:ext cx="142200" cy="700560"/>
          </a:xfrm>
          <a:prstGeom prst="bentConnector4">
            <a:avLst>
              <a:gd name="adj1" fmla="val -1188071"/>
              <a:gd name="adj2" fmla="val -78046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2" idx="3"/>
            <a:endCxn id="43" idx="0"/>
          </p:cNvCxnSpPr>
          <p:nvPr/>
        </p:nvCxnSpPr>
        <p:spPr>
          <a:xfrm flipH="1">
            <a:off x="9647280" y="1778040"/>
            <a:ext cx="51480" cy="687600"/>
          </a:xfrm>
          <a:prstGeom prst="bentConnector4">
            <a:avLst>
              <a:gd name="adj1" fmla="val -3251408"/>
              <a:gd name="adj2" fmla="val -79518"/>
            </a:avLst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4" idx="2"/>
            <a:endCxn id="45" idx="0"/>
          </p:cNvCxnSpPr>
          <p:nvPr/>
        </p:nvCxnSpPr>
        <p:spPr>
          <a:xfrm rot="5400000">
            <a:off x="981000" y="3427200"/>
            <a:ext cx="797040" cy="914760"/>
          </a:xfrm>
          <a:prstGeom prst="bentConnector3">
            <a:avLst>
              <a:gd name="adj1" fmla="val 51242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4" idx="2"/>
          </p:cNvCxnSpPr>
          <p:nvPr/>
        </p:nvCxnSpPr>
        <p:spPr>
          <a:xfrm flipH="1" rot="16200000">
            <a:off x="1035720" y="4286880"/>
            <a:ext cx="1640520" cy="38880"/>
          </a:xfrm>
          <a:prstGeom prst="bentConnector3">
            <a:avLst>
              <a:gd name="adj1" fmla="val 58099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4" idx="2"/>
            <a:endCxn id="47" idx="0"/>
          </p:cNvCxnSpPr>
          <p:nvPr/>
        </p:nvCxnSpPr>
        <p:spPr>
          <a:xfrm flipH="1" rot="16200000">
            <a:off x="1846080" y="3476520"/>
            <a:ext cx="821160" cy="840240"/>
          </a:xfrm>
          <a:prstGeom prst="bentConnector3">
            <a:avLst>
              <a:gd name="adj1" fmla="val 51228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2"/>
            <a:endCxn id="46" idx="0"/>
          </p:cNvCxnSpPr>
          <p:nvPr/>
        </p:nvCxnSpPr>
        <p:spPr>
          <a:xfrm rot="5400000">
            <a:off x="8805240" y="3327120"/>
            <a:ext cx="695880" cy="988560"/>
          </a:xfrm>
          <a:prstGeom prst="bentConnector3">
            <a:avLst>
              <a:gd name="adj1" fmla="val 51397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3" idx="2"/>
            <a:endCxn id="48" idx="0"/>
          </p:cNvCxnSpPr>
          <p:nvPr/>
        </p:nvCxnSpPr>
        <p:spPr>
          <a:xfrm flipH="1" rot="16200000">
            <a:off x="9819720" y="3300840"/>
            <a:ext cx="681480" cy="1026360"/>
          </a:xfrm>
          <a:prstGeom prst="bentConnector3">
            <a:avLst>
              <a:gd name="adj1" fmla="val 51479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3" idx="2"/>
            <a:endCxn id="50" idx="0"/>
          </p:cNvCxnSpPr>
          <p:nvPr/>
        </p:nvCxnSpPr>
        <p:spPr>
          <a:xfrm flipH="1" rot="16200000">
            <a:off x="8921880" y="4198320"/>
            <a:ext cx="1572120" cy="121680"/>
          </a:xfrm>
          <a:prstGeom prst="bentConnector3">
            <a:avLst>
              <a:gd name="adj1" fmla="val 50641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59" name=""/>
          <p:cNvSpPr txBox="1"/>
          <p:nvPr/>
        </p:nvSpPr>
        <p:spPr>
          <a:xfrm>
            <a:off x="2685960" y="5830920"/>
            <a:ext cx="614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Ú ELIGES. TÚ DECID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60" name=""/>
          <p:cNvCxnSpPr>
            <a:stCxn id="49" idx="2"/>
          </p:cNvCxnSpPr>
          <p:nvPr/>
        </p:nvCxnSpPr>
        <p:spPr>
          <a:xfrm flipH="1" rot="16200000">
            <a:off x="1928520" y="5504400"/>
            <a:ext cx="470520" cy="792720"/>
          </a:xfrm>
          <a:prstGeom prst="bentConnector3">
            <a:avLst>
              <a:gd name="adj1" fmla="val 76186"/>
            </a:avLst>
          </a:prstGeom>
          <a:ln w="5724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" name=""/>
          <p:cNvCxnSpPr>
            <a:stCxn id="50" idx="2"/>
          </p:cNvCxnSpPr>
          <p:nvPr/>
        </p:nvCxnSpPr>
        <p:spPr>
          <a:xfrm rot="5400000">
            <a:off x="9041400" y="5409000"/>
            <a:ext cx="570600" cy="884160"/>
          </a:xfrm>
          <a:prstGeom prst="bentConnector3">
            <a:avLst>
              <a:gd name="adj1" fmla="val 71590"/>
            </a:avLst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51400" y="240192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9600" y="76320"/>
            <a:ext cx="10287000" cy="575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3360" y="5861160"/>
            <a:ext cx="105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ESÚS: CUERPO Y SANGRE DE LA NUEVA AL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72840" y="-36360"/>
            <a:ext cx="52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O DE COMUN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680" y="649440"/>
            <a:ext cx="10972800" cy="1556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NO PODEMOS CAMINAR CON HAMBRE BAJO EL 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ANOS SIEMPRE EL MISMO P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U CUERPO Y SANGRE, SEÑ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9640" y="2554200"/>
            <a:ext cx="573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.- Comamos todos de este p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l pan de la un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 un cuerpo nos unió el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r medio del am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240" y="4459320"/>
            <a:ext cx="502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2.- Señor, yo tengo sed de 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sediento estoy de D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pero pronto llegaré a 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el rostro del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913360" y="2554200"/>
            <a:ext cx="5562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9880" y="7128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CIÓN DE DESP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36800" y="779400"/>
            <a:ext cx="9296280" cy="2043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N EL TRABAJO DE CADA DÍ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MO VIVÍAS Y AMABAS T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* QUEREMOS, MADRE, SERVIR AMAND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IRVIENDO SIEMPRE JUNTO A JESÚS.* (B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360" y="4952880"/>
            <a:ext cx="4343400" cy="1373760"/>
          </a:xfrm>
          <a:prstGeom prst="rect">
            <a:avLst/>
          </a:prstGeom>
          <a:solidFill>
            <a:srgbClr val="ccff66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SANTA CASIL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RUEGA POR NOS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9720" y="422928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8160" y="3011400"/>
            <a:ext cx="553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En el silencio de aquella alde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la casa humilde de Nazare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se va empapando de tu ternu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"/>
              </a:rPr>
              <a:t>de tu trabajo, de amor y 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684760" y="3116160"/>
            <a:ext cx="5715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6720" y="7920"/>
            <a:ext cx="50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O DE ENTRAD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6560" y="712800"/>
            <a:ext cx="7529400" cy="2043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A TI LEVANTO MIS OJ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A TI QUE HABITAS EN EL CIEL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A TI LEVANTO MIS OJ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PORQUE ESPERO TU MISERICO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720" y="2935440"/>
            <a:ext cx="699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- Como están los ojos de los esclav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ijos en las manos de sus señor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í están nuestros ojos en el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sperado su misericor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970760" y="192240"/>
            <a:ext cx="3353040" cy="4471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0" b="35353"/>
          <a:stretch/>
        </p:blipFill>
        <p:spPr>
          <a:xfrm>
            <a:off x="884160" y="4764240"/>
            <a:ext cx="3810240" cy="163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18160" y="4611600"/>
            <a:ext cx="5705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7440" y="115920"/>
            <a:ext cx="1167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Gloria a Dios en el ciel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, y en la tierra paz a los homb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que ama el Señor. Por tu inmensa gloria te alabamos, 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bendecimos, te adoramos, te glorificamos, te d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racias, Señor Dios, Rey celestial, Dios Pad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odopoderoso. Señor, Hijo único, Jesucristo. Señor Dio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rdero de Dios, Hijo del Padre; tú que quitas el pe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l mundo, ten piedad de nosotros; tú que quitas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ecado del mundo, atiende nuestra súplica; tú que est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entado a la derecha del Padre, ten piedad de nosotr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orque sólo tú eres Santo, sólo tú, Señor, sólo tú Altís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Jesucristo, con el Espíritu Santo en la gloria de Dios Pa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3185" r="0" b="0"/>
          <a:stretch/>
        </p:blipFill>
        <p:spPr>
          <a:xfrm>
            <a:off x="8704440" y="5450040"/>
            <a:ext cx="261936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15050" r="0" b="0"/>
          <a:stretch/>
        </p:blipFill>
        <p:spPr>
          <a:xfrm>
            <a:off x="2484360" y="5526000"/>
            <a:ext cx="198144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0" t="15050" r="0" b="0"/>
          <a:stretch/>
        </p:blipFill>
        <p:spPr>
          <a:xfrm>
            <a:off x="4389480" y="552600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0" t="47542" r="0" b="0"/>
          <a:stretch/>
        </p:blipFill>
        <p:spPr>
          <a:xfrm>
            <a:off x="6189840" y="5526000"/>
            <a:ext cx="2619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89360" y="-36360"/>
            <a:ext cx="85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IMERA LECTURA: Eclesiástico 15, 16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680" y="1303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Delante del hombre están la mue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y la vida: Le darán lo que él esco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680" y="2249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Es inmensa la sabiduría del Señ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000" y="2706840"/>
            <a:ext cx="49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SPUESTA AL SAL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960" y="3316320"/>
            <a:ext cx="10638000" cy="5356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cc"/>
                </a:solidFill>
                <a:latin typeface="Arial"/>
              </a:rPr>
              <a:t>DICHOSO EL QUE CAMINA EN LA VOLUNTAD DEL SEÑ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4080" y="3956040"/>
            <a:ext cx="88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GUNDA LECTURA: 1ª Corintios 2, 6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360" y="54943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Ni el ojo vio, ni el oído oyó, ni el hombre puede pensar lo que Dios ha preparado para los que lo ama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680" y="4503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Hablamos una sabiduría que no es de este mund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ino que enseñamos una sabiduría divina, mister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680" y="42084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Si quieres, guardarás sus mandat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porque es prudencia cumplir su volun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732880" y="407844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8230" t="6446" r="9979" b="3223"/>
          <a:stretch/>
        </p:blipFill>
        <p:spPr>
          <a:xfrm>
            <a:off x="7666200" y="573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5480" y="-36360"/>
            <a:ext cx="61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CLAMACIÓN AL EVANG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680" y="1303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El que cumple el mandamiento del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no verá la muerte y vivirá para siemp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60" y="2325600"/>
            <a:ext cx="83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EVANGELIO DE SAN MATEO 5, 17-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6720" y="3240000"/>
            <a:ext cx="599184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 creáis que he venido a abo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 ley y los profetas: no he veni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abolir, sino a dar plenitu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5640" y="4915080"/>
            <a:ext cx="62492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s lo aseguro: si no sois mej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ue los letrados y fariseos, 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ntraréis en el Reino de los Ciel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1840" y="496800"/>
            <a:ext cx="6397200" cy="5814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ALELUYA, ALELUYA, ALELU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5842" t="9047" r="6571" b="0"/>
          <a:stretch/>
        </p:blipFill>
        <p:spPr>
          <a:xfrm>
            <a:off x="6294600" y="2935440"/>
            <a:ext cx="5181480" cy="350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13560" y="115920"/>
            <a:ext cx="39625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64920" y="1487520"/>
            <a:ext cx="8244360" cy="5814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¿Quieres estar 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</a:rPr>
              <a:t>MUERTO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o quieres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IV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99360" y="2465280"/>
            <a:ext cx="289584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LA SABIDURÍA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I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2478240"/>
            <a:ext cx="3124080" cy="1008000"/>
          </a:xfrm>
          <a:prstGeom prst="rect">
            <a:avLst/>
          </a:prstGeom>
          <a:noFill/>
          <a:ln w="763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LA SABIDURÍA </a:t>
            </a: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4282920"/>
            <a:ext cx="175248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MUE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45000" y="4168800"/>
            <a:ext cx="102816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2120" y="4307040"/>
            <a:ext cx="94896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0" y="4154400"/>
            <a:ext cx="102816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0160" y="5145120"/>
            <a:ext cx="1875240" cy="520560"/>
          </a:xfrm>
          <a:prstGeom prst="rect">
            <a:avLst/>
          </a:prstGeom>
          <a:noFill/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EGOÍ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36440" y="5045040"/>
            <a:ext cx="126432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3" idx="1"/>
            <a:endCxn id="95" idx="0"/>
          </p:cNvCxnSpPr>
          <p:nvPr/>
        </p:nvCxnSpPr>
        <p:spPr>
          <a:xfrm flipH="1" flipV="1" rot="10800000">
            <a:off x="1510920" y="1806120"/>
            <a:ext cx="326160" cy="634320"/>
          </a:xfrm>
          <a:prstGeom prst="bentConnector4">
            <a:avLst>
              <a:gd name="adj1" fmla="val -61436"/>
              <a:gd name="adj2" fmla="val 77910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4" idx="0"/>
          </p:cNvCxnSpPr>
          <p:nvPr/>
        </p:nvCxnSpPr>
        <p:spPr>
          <a:xfrm flipH="1">
            <a:off x="9646920" y="1806480"/>
            <a:ext cx="216720" cy="621000"/>
          </a:xfrm>
          <a:prstGeom prst="bentConnector4">
            <a:avLst>
              <a:gd name="adj1" fmla="val -91846"/>
              <a:gd name="adj2" fmla="val 78538"/>
            </a:avLst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2"/>
            <a:endCxn id="96" idx="0"/>
          </p:cNvCxnSpPr>
          <p:nvPr/>
        </p:nvCxnSpPr>
        <p:spPr>
          <a:xfrm rot="5400000">
            <a:off x="1046520" y="3474360"/>
            <a:ext cx="665640" cy="915120"/>
          </a:xfrm>
          <a:prstGeom prst="bentConnector3">
            <a:avLst>
              <a:gd name="adj1" fmla="val 48430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5" idx="2"/>
          </p:cNvCxnSpPr>
          <p:nvPr/>
        </p:nvCxnSpPr>
        <p:spPr>
          <a:xfrm flipH="1" rot="16200000">
            <a:off x="1092240" y="4343040"/>
            <a:ext cx="1527840" cy="38880"/>
          </a:xfrm>
          <a:prstGeom prst="bentConnector3">
            <a:avLst>
              <a:gd name="adj1" fmla="val 49351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5" idx="2"/>
            <a:endCxn id="98" idx="0"/>
          </p:cNvCxnSpPr>
          <p:nvPr/>
        </p:nvCxnSpPr>
        <p:spPr>
          <a:xfrm flipH="1" rot="16200000">
            <a:off x="1911240" y="3523320"/>
            <a:ext cx="689760" cy="840600"/>
          </a:xfrm>
          <a:prstGeom prst="bentConnector3">
            <a:avLst>
              <a:gd name="adj1" fmla="val 48563"/>
            </a:avLst>
          </a:prstGeom>
          <a:ln w="57240">
            <a:solidFill>
              <a:srgbClr val="666699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4" idx="2"/>
            <a:endCxn id="97" idx="0"/>
          </p:cNvCxnSpPr>
          <p:nvPr/>
        </p:nvCxnSpPr>
        <p:spPr>
          <a:xfrm rot="5400000">
            <a:off x="8871120" y="3373920"/>
            <a:ext cx="564120" cy="988200"/>
          </a:xfrm>
          <a:prstGeom prst="bentConnector3">
            <a:avLst>
              <a:gd name="adj1" fmla="val 48148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4" idx="2"/>
            <a:endCxn id="99" idx="0"/>
          </p:cNvCxnSpPr>
          <p:nvPr/>
        </p:nvCxnSpPr>
        <p:spPr>
          <a:xfrm flipH="1" rot="16200000">
            <a:off x="9885240" y="3346920"/>
            <a:ext cx="549720" cy="1027800"/>
          </a:xfrm>
          <a:prstGeom prst="bentConnector3">
            <a:avLst>
              <a:gd name="adj1" fmla="val 48230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4" idx="2"/>
            <a:endCxn id="101" idx="0"/>
          </p:cNvCxnSpPr>
          <p:nvPr/>
        </p:nvCxnSpPr>
        <p:spPr>
          <a:xfrm flipH="1" rot="16200000">
            <a:off x="8987040" y="4244760"/>
            <a:ext cx="1440360" cy="122400"/>
          </a:xfrm>
          <a:prstGeom prst="bentConnector3">
            <a:avLst>
              <a:gd name="adj1" fmla="val 49275"/>
            </a:avLst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10" name=""/>
          <p:cNvSpPr txBox="1"/>
          <p:nvPr/>
        </p:nvSpPr>
        <p:spPr>
          <a:xfrm>
            <a:off x="2685960" y="5830920"/>
            <a:ext cx="6143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Ú ELIGES. TÚ DECID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111" name=""/>
          <p:cNvCxnSpPr>
            <a:stCxn id="100" idx="2"/>
          </p:cNvCxnSpPr>
          <p:nvPr/>
        </p:nvCxnSpPr>
        <p:spPr>
          <a:xfrm flipH="1" rot="16200000">
            <a:off x="1956240" y="5532120"/>
            <a:ext cx="415080" cy="793080"/>
          </a:xfrm>
          <a:prstGeom prst="bentConnector2">
            <a:avLst/>
          </a:prstGeom>
          <a:ln w="5724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1" idx="2"/>
          </p:cNvCxnSpPr>
          <p:nvPr/>
        </p:nvCxnSpPr>
        <p:spPr>
          <a:xfrm rot="5400000">
            <a:off x="9069480" y="5436360"/>
            <a:ext cx="515160" cy="884880"/>
          </a:xfrm>
          <a:prstGeom prst="bentConnector2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74680" y="7920"/>
            <a:ext cx="10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A PALABRA DE DIOS TE DICE …    (Homilí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8360" y="649440"/>
            <a:ext cx="1112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quel que se salva, sabe; y el que no, no sabe nada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997" t="0" r="6000" b="12334"/>
          <a:stretch/>
        </p:blipFill>
        <p:spPr>
          <a:xfrm>
            <a:off x="3551400" y="2325600"/>
            <a:ext cx="4419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6360" y="855720"/>
            <a:ext cx="1119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reo en un solo Dios,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dre todopoderos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dor del cielo y de la tierra, de todo lo visi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lo invisible. Creo en un solo Señor, Jesucrist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jo único de Dios, nacido  del Padre ante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os los siglos: Dios de Dios, Luz de Luz, Di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dadero de Dios verdadero, engendrado, 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ado, de la misma naturaleza del Padre, p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ien todo fue hecho;  que por nosotros 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bres, y por nuestra salvación bajo del cie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 por obra del Espíritu Santo se encarnó de María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600" y="154080"/>
            <a:ext cx="1122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l CREDO de nuestra fe. Es la fe de la Iglesi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4259" t="0" r="18335" b="0"/>
          <a:stretch/>
        </p:blipFill>
        <p:spPr>
          <a:xfrm>
            <a:off x="10638000" y="801720"/>
            <a:ext cx="761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3320" y="39600"/>
            <a:ext cx="109479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Virgen, y se hizo hombre; y por nuestra causa f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rucificado en tiempos de Poncio Pilato; padeció y f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epultado, y resucitó al tercer día según las Escritur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 subió al cielo, y está sentado a la derecha del Pad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y de nuevo vendrá con gloria para juzgar a viv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uertos, y su reino no tendrá fin. Creo en el Espíri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anto, Señor y dador de vida, que procede del Padre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l Hijo, que con el Padre y el Hijo recibe una mi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doración y gloria, y que habló por los profetas. Cre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la Iglesia, que es una, santa, católica y apostól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fieso que hay un solo bautismo para el perdón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os pecados. Espero la resurrección de los muertos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vida del mundo futuro. </a:t>
            </a:r>
            <a:r>
              <a:rPr b="1" lang="es-ES" sz="3200" spc="-1" strike="noStrike">
                <a:solidFill>
                  <a:srgbClr val="cc3300"/>
                </a:solidFill>
                <a:latin typeface="Arial"/>
              </a:rPr>
              <a:t>Am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34259" r="0" b="18335"/>
          <a:stretch/>
        </p:blipFill>
        <p:spPr>
          <a:xfrm>
            <a:off x="7132680" y="5983200"/>
            <a:ext cx="36576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34259" t="0" r="18335" b="0"/>
          <a:stretch/>
        </p:blipFill>
        <p:spPr>
          <a:xfrm>
            <a:off x="10866600" y="2021040"/>
            <a:ext cx="457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47440" y="109440"/>
            <a:ext cx="53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ANTO AL OFER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2400" y="1038240"/>
            <a:ext cx="7543800" cy="1556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EÑOR, TE OFRECEMOS EL VINO Y EL PAN, ASÍ RECORDA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LA CENA PASC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0440" y="2933640"/>
            <a:ext cx="647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.- Porque tú solo eres bueno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queremos cantar. Tus misericor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quién podrá ca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680" y="453384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.- Te ofrecemos nuestra vidas, Señ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 torno a tu altar. Tus misericordi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quién podrá ca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18480" y="1030320"/>
            <a:ext cx="3657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7:33:28Z</dcterms:created>
  <dc:creator>USUARIO</dc:creator>
  <dc:description/>
  <dc:language>en-US</dc:language>
  <cp:lastModifiedBy>USUARIO</cp:lastModifiedBy>
  <dcterms:modified xsi:type="dcterms:W3CDTF">2014-02-13T07:47:34Z</dcterms:modified>
  <cp:revision>52</cp:revision>
  <dc:subject/>
  <dc:title>Diapositiva 1</dc:title>
</cp:coreProperties>
</file>